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wmf" ContentType="image/x-wmf"/>
  <Override PartName="/ppt/media/image7.wmf" ContentType="image/x-wmf"/>
  <Override PartName="/ppt/media/image8.gif" ContentType="image/gif"/>
  <Override PartName="/ppt/media/image9.gif" ContentType="image/gif"/>
  <Override PartName="/ppt/media/image10.wmf" ContentType="image/x-wmf"/>
  <Override PartName="/ppt/media/image11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F981-E804-4BEB-BA79-A1CE64CAA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43F9-CC73-4DF7-B5E9-2E1D916B4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7E67-BBB1-47CC-9180-32FC82E9F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87A6-EB7F-400A-B7F8-32464102B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17EF-1C0F-425F-9A4E-CA36A3825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6169-778F-4C06-83A3-8C928F1BB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FFAE-14E2-4374-BB90-27E5006A4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3143-CFAE-487E-98BE-29382DC45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CDC9-A1EC-4058-824D-250E6BF1F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177A-79CA-4251-98BC-77671C840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224D-66A6-43AD-B6B0-0F84B5935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66AC-CEA7-4F71-882A-00F4C8E55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573F-DABB-4D7A-956B-8E4B21D5A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7A80-48FF-487C-8BE0-CDC8A5CBF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DD0E-5865-4487-8CDD-310315118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F66B-6E17-4718-B513-D17A4BE85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B767-6D0B-4684-857C-6308BFA6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F84A-C4FB-4B57-9799-EC74E9A6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12098-8BBC-425E-904E-04BF5694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1EDD0-1E71-4CFE-A418-C3C02C4F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7A80E-9DA1-4AE0-BAC2-3AA5F00A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3F00C-76E2-4E60-8092-554793A0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65802-117A-4E62-8BC4-523EA906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AAE6D-F558-4C8E-8F90-792B54DD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D14A9-4027-481F-B95A-39007F42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3C448-EDD6-42C5-B10F-B843A435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16B36-E372-4069-997E-C3546958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A17-FD9A-40D3-B0D3-3F14056C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5EDE-58A3-42AD-BDD6-CED176A1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1B09-115A-49C2-BDA9-15AB68A9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68EB-96B8-4A29-A598-5C489E9B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7C92-AC18-47E0-AC05-6BB0DE5C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42BF-5C3C-4A30-A383-B632186F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BE95-9F7D-4C3E-9929-BA505438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4D9A-A04D-40DE-9608-5FCAE005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5972-1382-4601-9FEE-6AB4F73A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CA9-BFA5-472F-8B0A-4990C344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DA60-768D-422B-BA08-C3BB99FE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BD3A-A4D7-49DD-802B-A588895D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353C-7C30-405D-8229-04C0678D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078E-297B-4CF1-B2FE-1E9EDC26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AF33-899F-420E-A5F4-4CDC973B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7BD4D-7AB7-4BAC-B7B0-CCD876BB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ACAE2-998C-4012-B137-60B31125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3F006-536D-4A91-8B29-960CE8F8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CFF02-DD36-429F-B2E1-BBDDB5B3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BB1EE-806C-4CAE-B944-E1AE087E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16C-EE60-40ED-9FD3-1F7BC735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8FD3A-6101-4D03-BF3A-B7513379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68F80-4D97-4563-90E4-FE50AC99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369ED-F6D0-402C-9A15-B370D4A8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8C670-6B47-404E-ABF1-4BB3F912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9DFED-6975-49B8-846F-8B04F732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8CEFC-339D-412C-9700-BA936E1B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061B4-BB87-4856-9A24-E57B5EB6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8786B-F17C-477F-B014-60CAED78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E9CB7-F348-40D3-ADA8-D8CEDB49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69A08-46FD-415C-83CD-814067C7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486-69CC-4A7D-A115-15455A87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885D5-E395-4198-8F8C-82036039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89C36-81A9-44D1-B1BE-6C76285C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EA073-0B75-47B5-B47E-3A74CCC1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991A3-BD64-448E-A68C-72A43170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52CB2-AED9-4D46-8CEE-B943D89E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538FB-AAA9-4142-ADDF-BC971336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E292B-2095-4608-895F-5C147CD7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F806E-BEB1-479C-B735-5D382A13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9D0E0-D6E7-4638-8ACA-DAEA821F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17715-5124-4815-A0A4-A5C7162B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1E4-46EB-4885-8008-F0CC8A49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2286F-4EDA-4113-9AD1-1C1F6FA7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08349-3338-405C-8941-AD2E9607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C94B5-35F2-4D2A-838B-0D036893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125A9-F646-456A-8380-594B8AFB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9C3A5-C0BF-40EB-98B0-C4784183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AB94A-445C-42F0-A893-8AC56425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C311D-A1E3-49E2-8C72-EFA8BACF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CA979-43B4-4CB3-AA26-8FB874FF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F8055-97F1-4533-A0A8-F7AB608F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0A591-C80C-479B-83E5-5E8839DA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AD2-05B7-4DC9-9AB0-DA3E076F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97E50-2FB4-45D7-B57B-BCB6C18F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CAE01-BB29-4B11-8D1B-AA2E003F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29CAE-36E1-46DF-8259-C86F70A4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65066-7827-49D4-B078-88E47A58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C6C4B-1456-44C7-99D7-C8F9EF1A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6E385-21D1-4D67-9B7C-B8141E72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4CB33-E231-4FDB-B2BA-832211F7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D88F3-4FB3-4318-8EB9-7B21E839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F90DD-D2E8-4DA7-B96B-8D5AB1BD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B2F1E-2031-4E5A-9648-F6CBFF9D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9D1-D213-4AFB-89C5-D380F6F0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F607C-4B12-4161-8367-59196451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AE6CB-57C0-4009-8866-F288D76A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276E9-504D-4A71-84D4-25EA81D0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9EB7E-2276-48DF-8FB4-475AA1B6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2EC4D-7A1F-4F14-80EB-260ADF27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38EDD-6DC5-4CA6-9EA0-9E9DBBD3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8F625-9962-4D18-AF05-B348AC09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F2194-85BD-433F-864C-F83DD9DD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DCE8D-10D6-40BA-9EA0-43094701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D1F12-3F76-49B8-817D-D7929AFD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420-E691-4E12-9C33-D22DACED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DE2AC-1CF1-4AD9-AA2E-F2650046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DE4F8-75A8-4801-AC97-5C44FDE7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4B6F7-35F7-4BD1-816E-583A1063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98A59-D05F-41A3-8C6D-49B78C7A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595E1-3185-4404-8923-B50FCBEF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009CD-2AAE-4AD3-B886-A2654334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7BBA0-31D7-416E-842D-84FC715C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A9E4C-F4BF-4F66-8691-C3D07428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000A7-823F-40B0-8656-A12149FD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EF973-39EE-440B-BC53-1136EE4B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01F-8868-4751-8BA5-6E0BADA7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FF126-A7DB-45F6-8E82-BEB4DE3E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E46E6-ABDE-4C98-AE6A-574551E5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19418-D6F7-4973-8F3A-6C2975A0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F253D-19E5-4356-8E15-2F70E0DD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48F8D-77A2-4699-85FA-0E1C4274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FB3A4-CB90-459B-8BF2-7C419CD1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CAC3D-E08B-43DC-9E7C-D8296369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6A7A2-8743-417E-A2FA-BF70BECA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1EAFB-4433-4AEB-9D1F-47895BFD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EBB89-1EB8-48B6-A7AA-A838CD31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0C35-9741-4469-B50F-2E5E4F0CC9B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4FF5-E2CA-40F2-A169-460BFE255CB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7821-4F13-4D4F-9FDD-C2B4274F106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D7E4-DA55-4E18-A2E1-2D820EF34D6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85B0-8A60-4D66-9497-8E486A0C171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FE04-BF9E-463B-A8D4-993BA2D148D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AA6F-ABE8-44B4-A03E-1A64A2885E1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2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698C-C069-4611-B95B-3FAFFFCF524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8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71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34F3-5B81-47C5-B9F0-842287F9196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a8a14"/>
                </a:solidFill>
                <a:latin typeface="Comic Sans MS"/>
              </a:rPr>
              <a:t>Scientific Method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Comic Sans MS"/>
              </a:rPr>
              <a:t>One more thing… it is best to make </a:t>
            </a:r>
            <a:r>
              <a:rPr b="1" lang="en-US" sz="4300" spc="-1" strike="noStrike">
                <a:solidFill>
                  <a:srgbClr val="8dc765"/>
                </a:solidFill>
                <a:latin typeface="Comic Sans MS"/>
              </a:rPr>
              <a:t>several trials</a:t>
            </a:r>
            <a:r>
              <a:rPr b="1" lang="en-US" sz="4300" spc="-1" strike="noStrike">
                <a:solidFill>
                  <a:srgbClr val="572314"/>
                </a:solidFill>
                <a:latin typeface="Comic Sans MS"/>
              </a:rPr>
              <a:t> with each independent variable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aa8a14"/>
                </a:solidFill>
                <a:latin typeface="Comic Sans MS"/>
              </a:rPr>
              <a:t>Remember: To be a Valid Experiment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c765"/>
                </a:solidFill>
                <a:latin typeface="Comic Sans MS"/>
              </a:rPr>
              <a:t>Two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required --- the control &amp; experimental group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should be only </a:t>
            </a:r>
            <a:r>
              <a:rPr b="1" lang="en-US" sz="3600" spc="-1" strike="noStrike">
                <a:solidFill>
                  <a:srgbClr val="aa8a14"/>
                </a:solidFill>
                <a:latin typeface="Comic Sans MS"/>
              </a:rPr>
              <a:t>on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aa8a14"/>
                </a:solidFill>
                <a:latin typeface="Comic Sans MS"/>
              </a:rPr>
              <a:t>variab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a8a14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c765"/>
                </a:solidFill>
                <a:latin typeface="Comic Sans MS"/>
              </a:rPr>
              <a:t>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the experimen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y be </a:t>
            </a:r>
            <a:r>
              <a:rPr b="1" lang="en-US" sz="3600" spc="-1" strike="noStrike">
                <a:solidFill>
                  <a:srgbClr val="8dc765"/>
                </a:solidFill>
                <a:latin typeface="Comic Sans MS"/>
              </a:rPr>
              <a:t>quantitativ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numbers) or </a:t>
            </a:r>
            <a:r>
              <a:rPr b="1" lang="en-US" sz="3600" spc="-1" strike="noStrike">
                <a:solidFill>
                  <a:srgbClr val="8dc765"/>
                </a:solidFill>
                <a:latin typeface="Comic Sans MS"/>
              </a:rPr>
              <a:t>qualitativ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(descriptive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9" name="Picture 6" descr="j0076136"/>
          <p:cNvPicPr/>
          <p:nvPr/>
        </p:nvPicPr>
        <p:blipFill>
          <a:blip r:embed="rId2"/>
          <a:stretch/>
        </p:blipFill>
        <p:spPr>
          <a:xfrm>
            <a:off x="6568920" y="3646440"/>
            <a:ext cx="9622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a8a14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st be</a:t>
            </a:r>
            <a:r>
              <a:rPr b="1" lang="en-US" sz="3600" spc="-1" strike="noStrike">
                <a:solidFill>
                  <a:srgbClr val="8dc765"/>
                </a:solidFill>
                <a:latin typeface="Comic Sans MS"/>
              </a:rPr>
              <a:t> organize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be organized into </a:t>
            </a:r>
            <a:r>
              <a:rPr b="1" lang="en-US" sz="3600" spc="-1" strike="noStrike">
                <a:solidFill>
                  <a:srgbClr val="aa8a14"/>
                </a:solidFill>
                <a:latin typeface="Comic Sans MS"/>
              </a:rPr>
              <a:t>charts, tables, or graph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2" name="Picture 4" descr="j0076136"/>
          <p:cNvPicPr/>
          <p:nvPr/>
        </p:nvPicPr>
        <p:blipFill>
          <a:blip r:embed="rId2"/>
          <a:stretch/>
        </p:blipFill>
        <p:spPr>
          <a:xfrm>
            <a:off x="6568920" y="3646440"/>
            <a:ext cx="9622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a8a14"/>
                </a:solidFill>
                <a:latin typeface="Comic Sans MS"/>
              </a:rPr>
              <a:t>Conclusion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415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8dc765"/>
                </a:solidFill>
                <a:latin typeface="Comic Sans MS"/>
              </a:rPr>
              <a:t>answ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the hypothesis based on the </a:t>
            </a:r>
            <a:r>
              <a:rPr b="1" lang="en-US" sz="3600" spc="-1" strike="noStrike">
                <a:solidFill>
                  <a:srgbClr val="aa8a14"/>
                </a:solidFill>
                <a:latin typeface="Comic Sans MS"/>
              </a:rPr>
              <a:t>data obtained from the experimen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5" name="Picture 6" descr="bs01344_"/>
          <p:cNvPicPr/>
          <p:nvPr/>
        </p:nvPicPr>
        <p:blipFill>
          <a:blip r:embed="rId2"/>
          <a:stretch/>
        </p:blipFill>
        <p:spPr>
          <a:xfrm>
            <a:off x="6270480" y="3405240"/>
            <a:ext cx="155916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a8a14"/>
                </a:solidFill>
                <a:latin typeface="Comic Sans MS"/>
              </a:rPr>
              <a:t>Retest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order to </a:t>
            </a:r>
            <a:r>
              <a:rPr b="1" lang="en-US" sz="3600" spc="-1" strike="noStrike">
                <a:solidFill>
                  <a:srgbClr val="8dc765"/>
                </a:solidFill>
                <a:latin typeface="Comic Sans MS"/>
              </a:rPr>
              <a:t>verify the 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experiments must be retested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8" name="Picture 6" descr="j0076135"/>
          <p:cNvPicPr/>
          <p:nvPr/>
        </p:nvPicPr>
        <p:blipFill>
          <a:blip r:embed="rId2"/>
          <a:stretch/>
        </p:blipFill>
        <p:spPr>
          <a:xfrm>
            <a:off x="5987880" y="3303720"/>
            <a:ext cx="21243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a8a14"/>
                </a:solidFill>
                <a:latin typeface="Comic Sans MS"/>
              </a:rPr>
              <a:t>Solving a Problem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441972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1" lang="en-US" sz="2400" spc="-1" strike="noStrike">
                <a:solidFill>
                  <a:srgbClr val="8dc765"/>
                </a:solidFill>
                <a:latin typeface="Comic Sans MS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 Probl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) State </a:t>
            </a:r>
            <a:r>
              <a:rPr b="1" lang="en-US" sz="2400" spc="-1" strike="noStrike">
                <a:solidFill>
                  <a:srgbClr val="8dc765"/>
                </a:solidFill>
                <a:latin typeface="Comic Sans MS"/>
              </a:rPr>
              <a:t>Observati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) Form a </a:t>
            </a:r>
            <a:r>
              <a:rPr b="1" lang="en-US" sz="2400" spc="-1" strike="noStrike">
                <a:solidFill>
                  <a:srgbClr val="8dc765"/>
                </a:solidFill>
                <a:latin typeface="Comic Sans MS"/>
              </a:rPr>
              <a:t>Hypothes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 (if…then…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) Design an </a:t>
            </a:r>
            <a:r>
              <a:rPr b="1" lang="en-US" sz="2400" spc="-1" strike="noStrike">
                <a:solidFill>
                  <a:srgbClr val="8dc765"/>
                </a:solidFill>
                <a:latin typeface="Comic Sans MS"/>
              </a:rPr>
              <a:t>Experiment to test the hypothe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) Collect </a:t>
            </a:r>
            <a:r>
              <a:rPr b="1" lang="en-US" sz="2400" spc="-1" strike="noStrike">
                <a:solidFill>
                  <a:srgbClr val="8dc765"/>
                </a:solidFill>
                <a:latin typeface="Comic Sans MS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) Form a </a:t>
            </a:r>
            <a:r>
              <a:rPr b="1" lang="en-US" sz="2400" spc="-1" strike="noStrike">
                <a:solidFill>
                  <a:srgbClr val="8dc765"/>
                </a:solidFill>
                <a:latin typeface="Comic Sans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) </a:t>
            </a:r>
            <a:r>
              <a:rPr b="1" lang="en-US" sz="2400" spc="-1" strike="noStrike">
                <a:solidFill>
                  <a:srgbClr val="8dc765"/>
                </a:solidFill>
                <a:latin typeface="Comic Sans MS"/>
              </a:rPr>
              <a:t>Ret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1" name="Picture 6" descr="j0076187"/>
          <p:cNvPicPr/>
          <p:nvPr/>
        </p:nvPicPr>
        <p:blipFill>
          <a:blip r:embed="rId2"/>
          <a:stretch/>
        </p:blipFill>
        <p:spPr>
          <a:xfrm>
            <a:off x="6369120" y="3313080"/>
            <a:ext cx="1361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aa8a14"/>
                </a:solidFill>
                <a:latin typeface="Comic Sans MS"/>
              </a:rPr>
              <a:t>Steps in the Scientific Method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3" name="Picture 6" descr="j0076135"/>
          <p:cNvPicPr/>
          <p:nvPr/>
        </p:nvPicPr>
        <p:blipFill>
          <a:blip r:embed="rId2"/>
          <a:stretch/>
        </p:blipFill>
        <p:spPr>
          <a:xfrm>
            <a:off x="2025720" y="3303720"/>
            <a:ext cx="2124000" cy="15429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servation / Probl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t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a8a14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thered through your </a:t>
            </a:r>
            <a:r>
              <a:rPr b="1" lang="en-US" sz="3200" spc="-1" strike="noStrike">
                <a:solidFill>
                  <a:srgbClr val="8dc765"/>
                </a:solidFill>
                <a:latin typeface="Comic Sans MS"/>
              </a:rPr>
              <a:t>sen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cientist notices something in their </a:t>
            </a:r>
            <a:r>
              <a:rPr b="1" lang="en-US" sz="3200" spc="-1" strike="noStrike">
                <a:solidFill>
                  <a:srgbClr val="8dc765"/>
                </a:solidFill>
                <a:latin typeface="Comic Sans MS"/>
              </a:rPr>
              <a:t>natural worl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7" name="Picture 6" descr="j0078802"/>
          <p:cNvPicPr/>
          <p:nvPr/>
        </p:nvPicPr>
        <p:blipFill>
          <a:blip r:embed="rId2"/>
          <a:stretch/>
        </p:blipFill>
        <p:spPr>
          <a:xfrm>
            <a:off x="5697360" y="2851200"/>
            <a:ext cx="2705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a8a14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suggested solution to the proble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t be </a:t>
            </a:r>
            <a:r>
              <a:rPr b="1" lang="en-US" sz="2800" spc="-1" strike="noStrike">
                <a:solidFill>
                  <a:srgbClr val="8dc765"/>
                </a:solidFill>
                <a:latin typeface="Comic Sans MS"/>
              </a:rPr>
              <a:t>test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t be based upon research or prior knowled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metimes written as </a:t>
            </a:r>
            <a:r>
              <a:rPr b="1" lang="en-US" sz="2800" spc="-1" strike="noStrike">
                <a:solidFill>
                  <a:srgbClr val="aa8a14"/>
                </a:solidFill>
                <a:latin typeface="Comic Sans MS"/>
              </a:rPr>
              <a:t>If…Then…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dc765"/>
                </a:solidFill>
                <a:latin typeface="Comic Sans MS"/>
              </a:rPr>
              <a:t>Predict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 outco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" name="Picture 6" descr="bd05030_"/>
          <p:cNvPicPr/>
          <p:nvPr/>
        </p:nvPicPr>
        <p:blipFill>
          <a:blip r:embed="rId2"/>
          <a:stretch/>
        </p:blipFill>
        <p:spPr>
          <a:xfrm>
            <a:off x="6586560" y="3449520"/>
            <a:ext cx="92700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a8a14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c765"/>
                </a:solidFill>
                <a:latin typeface="Comic Sans MS"/>
              </a:rPr>
              <a:t>Independent Variab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ctor that is being tes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er contro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nipulating vari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aphed on x-ax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4572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c765"/>
                </a:solidFill>
                <a:latin typeface="Comic Sans MS"/>
              </a:rPr>
              <a:t>Dependent Variab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a8a14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utco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a8a14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ponding vari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a8a14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aphed on y-ax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3"/>
          <p:cNvSpPr/>
          <p:nvPr/>
        </p:nvSpPr>
        <p:spPr>
          <a:xfrm>
            <a:off x="76212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c765"/>
                </a:solidFill>
                <a:latin typeface="Comic Sans MS"/>
              </a:rPr>
              <a:t>Control Group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a8a14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experimental group that is used as the comparis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a8a14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ually is not maniupula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Experi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510552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c765"/>
                </a:solidFill>
                <a:latin typeface="Comic Sans MS"/>
              </a:rPr>
              <a:t>Consta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a8a14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ditions that stay the sa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a8a14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duce error and make data more vali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8a14"/>
                </a:solidFill>
                <a:latin typeface="Comic Sans MS"/>
              </a:rPr>
              <a:t>Scientific Experiments Follow Rul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438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experimenter </a:t>
            </a:r>
            <a:r>
              <a:rPr b="1" lang="en-US" sz="3600" spc="-1" strike="noStrike">
                <a:solidFill>
                  <a:srgbClr val="8dc765"/>
                </a:solidFill>
                <a:latin typeface="Comic Sans MS"/>
              </a:rPr>
              <a:t>changes one factor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3600" spc="-1" strike="noStrike">
                <a:solidFill>
                  <a:srgbClr val="8dc765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aa8a14"/>
                </a:solidFill>
                <a:latin typeface="Comic Sans MS"/>
              </a:rPr>
              <a:t>observes or measures</a:t>
            </a:r>
            <a:r>
              <a:rPr b="1" lang="en-US" sz="3600" spc="-1" strike="noStrike">
                <a:solidFill>
                  <a:srgbClr val="8dc765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happen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9" name="Picture 4" descr="professor7"/>
          <p:cNvPicPr/>
          <p:nvPr/>
        </p:nvPicPr>
        <p:blipFill>
          <a:blip r:embed="rId2"/>
          <a:stretch/>
        </p:blipFill>
        <p:spPr>
          <a:xfrm>
            <a:off x="5068800" y="2498760"/>
            <a:ext cx="388620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aa8a14"/>
                </a:solidFill>
                <a:latin typeface="Comic Sans MS"/>
              </a:rPr>
              <a:t>Example of Contants &amp; Variabl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2057400"/>
            <a:ext cx="8458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dc765"/>
                </a:solidFill>
                <a:latin typeface="Comic Sans MS"/>
              </a:rPr>
              <a:t>For example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, suppose you want to figure out the </a:t>
            </a:r>
            <a:r>
              <a:rPr b="0" lang="en-US" sz="3000" spc="-1" strike="noStrike">
                <a:solidFill>
                  <a:srgbClr val="aa8a14"/>
                </a:solidFill>
                <a:latin typeface="Comic Sans MS"/>
              </a:rPr>
              <a:t>fastest route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to walk home from school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You will try </a:t>
            </a:r>
            <a:r>
              <a:rPr b="0" lang="en-US" sz="3000" spc="-1" strike="noStrike">
                <a:solidFill>
                  <a:srgbClr val="aa8a14"/>
                </a:solidFill>
                <a:latin typeface="Comic Sans MS"/>
              </a:rPr>
              <a:t>several different route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000" spc="-1" strike="noStrike">
                <a:solidFill>
                  <a:srgbClr val="aa8a14"/>
                </a:solidFill>
                <a:latin typeface="Comic Sans MS"/>
              </a:rPr>
              <a:t>time how long it take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you to get home by each one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ince you are only interested in finding a route that is fastest for you, </a:t>
            </a:r>
            <a:r>
              <a:rPr b="0" lang="en-US" sz="3000" spc="-1" strike="noStrike">
                <a:solidFill>
                  <a:srgbClr val="aa8a14"/>
                </a:solidFill>
                <a:latin typeface="Comic Sans MS"/>
              </a:rPr>
              <a:t>you will do the walking yourself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aa8a14"/>
                </a:solidFill>
                <a:latin typeface="Comic Sans MS"/>
              </a:rPr>
              <a:t>What are the Variables in Your Experimen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arying the route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time it takes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Keeping the same walker throughout makes the walker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stant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5:35:53Z</dcterms:created>
  <dc:creator>Laura</dc:creator>
  <dc:description/>
  <dc:language>en-US</dc:language>
  <cp:lastModifiedBy>Administrative Services</cp:lastModifiedBy>
  <dcterms:modified xsi:type="dcterms:W3CDTF">2011-08-17T15:50:40Z</dcterms:modified>
  <cp:revision>2</cp:revision>
  <dc:subject/>
  <dc:title>Scientific Method</dc:title>
</cp:coreProperties>
</file>